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whoosh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474-BE40-414D-80A0-66A81118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B37-02B0-4C8C-BB3B-B99E3F68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598-D5CB-4DA3-856C-6820DBF9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0D10-9C57-4A2C-9C81-8E67A1BE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CFD6-2AD9-4B03-8D2C-11513CAD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04E6-2232-4D35-B985-660296B0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6D1-EC69-403D-9C1D-ACA4AB63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5372-CD40-4394-9F71-6792CDD1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E720-914D-477E-A9A8-3A4F6D41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BE59-D919-48B7-9CB4-AE688FBE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C272-02EC-4757-97C1-BF63A2C5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3BD4-5123-4CA3-A268-AD881FB4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AFE5-4DA3-4A43-AEDD-F7700760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6984-FB80-4833-8342-589A2E87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F15F-8E2F-4203-A8DB-C9AF78A6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6084-FB84-4BA8-B7BA-727A0E33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2F44-2F40-4B57-A13B-EF9D4A93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A28-6ECA-4529-BDD9-D3A274A0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79E4-3A3D-4075-8625-2307D98F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4FFF-1FB6-455E-8A41-3E50EB76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79D2-A956-4FE0-AB36-B69D4EB0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F5A2-9DA4-4AD4-8C25-7F7F4540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DD62-0FF7-4BE5-A6BB-F58AD69F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FD43-C5FC-4E5C-9EC8-5D30FD7C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DC45-B6FB-42F3-8E89-16C3EB14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039D-2BE3-428A-B651-347751CA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0A77-D7A2-445E-9371-37469FDC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B72BD-A642-4F3A-9722-C80DDD89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93F-9363-4106-8C9D-44A1AA31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AC70-F67D-4A14-8E75-FDCFD507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77A2-EAD3-4017-8405-2020AD5C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A165-A0F1-4608-ABB2-8E6B35CB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FA53-7F41-400C-912B-BF27A2A7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81E2-A236-4D8C-88CE-7F4F7D1E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74549-D007-413A-89EB-2754805D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D2104-D620-4F48-A033-771B2EF7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5CA5-6304-4FA2-8E8F-A8EB84D3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7930-9586-4718-A10E-8DFCF89D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79B42-3E9D-45AE-9DFB-744DD3D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E81-76A4-4A46-9D54-87CED445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280B-899A-4841-AB33-1CBDF330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079E-A5B4-48D9-A20E-F8AE4F62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EE48-2386-4CB9-8DC8-3024B24F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29901-280C-4A9F-A5DD-1ACB2659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93DBB-E3CD-4DF6-B1C6-E71D170C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0980A-C1A0-4005-B8A4-75C908C0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B58E2-2DE5-4934-9CA3-A6B99AEF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2777B-6533-4CBE-9D4F-997294D4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8133A-7F34-44FC-96F9-1ED0CE62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F9D46-1A21-4958-B583-4628931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339-51BA-402F-8C8F-B8554F6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6CE2D-BC4F-4735-909F-C4FD846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E5064-8967-41FB-A848-C58C30AE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8E2D9-70B5-48CA-A4B6-A25B0F3D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736A2-1182-47F7-A875-DBC13AB5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A44D-2396-4C7E-ACBA-AA8D3445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1325-C8C2-4B58-B011-E8A3A6B8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4B8BC-AAFA-4B6F-AB8F-2AA3FA5C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A46AB-C64D-44BF-815F-7121A242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79176-2A24-47F7-901C-9B741953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D4B63-EEF2-4893-8D7E-6EA313F6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74D-0992-422F-A0BA-F3CC550A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A641-0D38-4189-AFEE-C9180D79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B0B0F-0D7B-41C2-97FB-2C8A2BDC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384E7-A4FF-43DD-91C7-44CB1A2D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57150-9022-43A5-AE39-AEFC65F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B99CC-E0E6-456C-9A6A-2BDEC069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07392-71B6-4A22-A457-38376640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5796A-5184-4FED-881E-BA1A78CD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7668F-8C8E-4A68-861C-595E429F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78815-6EE8-4AA1-8FDE-5173C5A2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C5CE-173E-49A1-BD5D-FD9F1C06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801-8A9C-46FC-A06F-3E9CDE46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A2D67-037D-439A-A930-543A9B4F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B1AF6-FEBA-42D2-BCBB-FBBFDE17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7597F-D8AE-4EC3-ABBF-D03204B2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3E776-D5D2-4D06-AC7E-E0484628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AC103-F069-4328-8B39-C0229C76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01A71-B987-483B-80FD-644A61AA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3D06F-A18F-4777-9FC0-2C759668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D174A-37E7-4C79-8754-93CBA60D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8EF63-E49C-48B6-A9D7-57006114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8EAAA-B236-4815-A048-B7A8AA97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AF6-64C1-4DEC-919F-12371E2C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366BC-37F3-4184-B8F0-F9435446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7D358-D4D5-4C1A-9AFD-08BC100D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B9010-3AC0-4799-B5F0-8935333A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C35B6-F1E7-472B-A9EE-F8DB4522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CC551-1902-420C-B84E-D1FFE003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788F1-DF41-4B5B-B519-0F39CF7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F44F1-36F7-4670-BE7F-E34B210C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81A57-0D94-4172-BDFB-94A74860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DE466-461F-41E7-B70F-F0035D14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043BD-6CC2-4B36-A231-D96BE47A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2CB-6DC4-4990-90B8-815600F1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7C326-6C57-4BA7-8BB2-D720DF40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F6A0B-4694-40EC-AF2C-852F667B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26660-0734-4FAB-A872-0DC71EF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F4C22-3A4E-419D-9CB1-6827D7A6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A59F5-C3BA-4A7F-9C27-6D5E0399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4DBE3-8FA2-46AE-BFBB-083EDA7C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28814-BA57-48E0-9A9A-0BDB61C4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274AB-F64A-4A8B-A993-26A448C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E1E3B-4CBA-4142-9632-4720C40C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8C649-2783-490A-B728-4671459E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78D55-693A-4F06-9198-F750F10D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4BDD8-1F03-4F83-9BEC-5F143F83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9B94C-353C-4C93-A47C-9D4C43C7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4C23F-12B5-4A45-A673-2C4FC5C8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2A99B-46A1-4155-9EAF-23EC371D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0C729-DF3D-4853-8FE2-419A6645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E5C6E-DCF5-4407-AF79-C1F8CAB0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3CD9A-1094-493E-8557-74DFA5D8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D70C6-79CF-442E-9B21-C9E7D751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8BD55-850A-454B-8ECA-5C4EB2F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4FBAC-ED73-403E-AEAD-640A5159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6B262-C5AB-4ECE-BBAC-8EDD796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C5D1A-06E8-44F8-9317-94D2ACC1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C358A-D033-477A-983D-0A47BCE8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FF7FD-8CAE-4462-BBAB-AB706D7B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62882-CB22-4153-B2D4-43E8C315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26F20-1723-4158-B435-F7E4AD22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47AF9-720B-4111-808F-62AB074B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DC3B7-B672-47E2-95D9-E4E6258A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90E83-226B-4434-946F-36D841E3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D9A26-0D66-4866-BD67-21C055E4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82524-701A-4FA8-B716-C30EFECE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27D70-017E-4EC9-8473-87652FE2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30CC4-F3B4-45B3-B11C-CF3FE8AA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98ECC-E7AE-4818-8E23-AE4593E1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6583B-2035-4FF0-AC00-35064A46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8ABF0-A66C-4EF3-A9A0-6C64D473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9AF7A-E009-47DA-B824-6E4E8B92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AAF89-2D6C-4A2A-960D-0C4761D5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AC931-594A-4832-B7AE-91EC1EC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42C08-BE95-4A9D-ABAE-9F021A75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4A70F-C80F-46C3-8C7F-3C94A4D7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3EFD3-6277-449A-B1FE-2D225A19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CF29A-CA39-4CAF-8F5A-A411878F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5319A-C804-444E-8517-DBD24696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11983-0894-4A6B-808F-5466130A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106E4-4915-4E9F-8D25-1AB5409F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20984-232F-4DC4-8AFB-5B1F24D7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65D1A-4B14-42A0-8307-2221B284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05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79DF-390B-48AE-895E-23500D43A40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1A2C-B8EA-4FC4-BE12-8E713CD6BAF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FCEB-A04E-4D63-9B04-C73532A2F16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1EC9-7C1E-4029-B782-250DA829267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5783-C69B-4A11-98ED-D6690500BB6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DC6B-28C6-4CC5-BC9E-3DF00D335AD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39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0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ADC8-B797-442B-AA01-9DC4892AD2E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EB29-2328-488E-9FD7-85175E0903C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1DFB-22D8-4BB8-A51D-263EC452B12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A062-518F-4D1E-8B4E-46953D368EF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BCF1-DEAE-46A9-B7DF-BAB336F772F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6761-ACEA-45F7-AD83-B2DA50424C3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../../../../&#25945;&#24072;&#35838;&#20214;/&#35821;&#25991;/&#37011;&#25096;/&#40635;&#38592;2.ppt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../../../&#25945;&#24072;&#35838;&#20214;/&#35821;&#25991;/&#37011;&#25096;/&#40635;&#38592;2.ppt" TargetMode="External"/><Relationship Id="rId4" Type="http://schemas.openxmlformats.org/officeDocument/2006/relationships/image" Target="../media/image6.png"/><Relationship Id="rId5" Type="http://schemas.openxmlformats.org/officeDocument/2006/relationships/hyperlink" Target="../../../../&#25945;&#24072;&#35838;&#20214;/&#35821;&#25991;/&#37011;&#25096;/&#40635;&#38592;2.ppt" TargetMode="External"/><Relationship Id="rId6" Type="http://schemas.openxmlformats.org/officeDocument/2006/relationships/image" Target="../media/image7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../../../&#25945;&#24072;&#35838;&#20214;/&#35821;&#25991;/&#37011;&#25096;/&#40635;&#38592;2.ppt" TargetMode="External"/><Relationship Id="rId3" Type="http://schemas.openxmlformats.org/officeDocument/2006/relationships/image" Target="../media/image6.png"/><Relationship Id="rId4" Type="http://schemas.openxmlformats.org/officeDocument/2006/relationships/hyperlink" Target="../../../../&#25945;&#24072;&#35838;&#20214;/&#35821;&#25991;/&#37011;&#25096;/&#40635;&#38592;2.ppt" TargetMode="Externa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../../../&#25945;&#24072;&#35838;&#20214;/&#35821;&#25991;/&#37011;&#25096;/&#40635;&#38592;2.ppt" TargetMode="External"/><Relationship Id="rId3" Type="http://schemas.openxmlformats.org/officeDocument/2006/relationships/image" Target="../media/image6.png"/><Relationship Id="rId4" Type="http://schemas.openxmlformats.org/officeDocument/2006/relationships/hyperlink" Target="../../../../&#25945;&#24072;&#35838;&#20214;/&#35821;&#25991;/&#37011;&#25096;/&#40635;&#38592;2.ppt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../../../&#25945;&#24072;&#35838;&#20214;/&#35821;&#25991;/&#37011;&#25096;/&#40635;&#38592;2.ppt" TargetMode="External"/><Relationship Id="rId4" Type="http://schemas.openxmlformats.org/officeDocument/2006/relationships/image" Target="../media/image6.png"/><Relationship Id="rId5" Type="http://schemas.openxmlformats.org/officeDocument/2006/relationships/hyperlink" Target="../../../../&#25945;&#24072;&#35838;&#20214;/&#35821;&#25991;/&#37011;&#25096;/&#40635;&#38592;2.ppt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../../../&#25945;&#24072;&#35838;&#20214;/&#35821;&#25991;/&#37011;&#25096;/&#40635;&#38592;2.ppt" TargetMode="External"/><Relationship Id="rId4" Type="http://schemas.openxmlformats.org/officeDocument/2006/relationships/image" Target="../media/image6.png"/><Relationship Id="rId5" Type="http://schemas.openxmlformats.org/officeDocument/2006/relationships/hyperlink" Target="../../../../&#25945;&#24072;&#35838;&#20214;/&#35821;&#25991;/&#37011;&#25096;/&#40635;&#38592;2.ppt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2" descr=""/>
          <p:cNvPicPr/>
          <p:nvPr/>
        </p:nvPicPr>
        <p:blipFill>
          <a:blip r:embed="rId1"/>
          <a:srcRect l="0" t="0" r="0" b="-609"/>
          <a:stretch/>
        </p:blipFill>
        <p:spPr>
          <a:xfrm>
            <a:off x="324000" y="1197000"/>
            <a:ext cx="5327640" cy="4335480"/>
          </a:xfrm>
          <a:prstGeom prst="rect">
            <a:avLst/>
          </a:prstGeom>
          <a:ln w="0">
            <a:noFill/>
          </a:ln>
        </p:spPr>
      </p:pic>
      <p:sp>
        <p:nvSpPr>
          <p:cNvPr id="963" name="Text Box 3"/>
          <p:cNvSpPr/>
          <p:nvPr/>
        </p:nvSpPr>
        <p:spPr>
          <a:xfrm>
            <a:off x="6356160" y="1101600"/>
            <a:ext cx="16434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00"/>
                </a:solidFill>
                <a:latin typeface="汉仪小隶书简"/>
                <a:ea typeface="汉仪小隶书简"/>
              </a:rPr>
              <a:t>麻 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179280" y="1052640"/>
            <a:ext cx="8785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突然，一只老麻雀从一棵树上飞下来，</a:t>
            </a:r>
            <a:r>
              <a:rPr b="1" lang="zh-CN" sz="48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像一块石头似的</a:t>
            </a: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落在猎狗面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000"/>
                </a:solidFill>
                <a:latin typeface="Arial"/>
                <a:ea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2"/>
          <p:cNvSpPr/>
          <p:nvPr/>
        </p:nvSpPr>
        <p:spPr>
          <a:xfrm>
            <a:off x="179280" y="1052640"/>
            <a:ext cx="8785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突然，一只老麻雀从一棵树上飞下来，</a:t>
            </a:r>
            <a:r>
              <a:rPr b="1" lang="zh-CN" sz="48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像一块石头似的</a:t>
            </a: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落在猎狗面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突然，一只老麻雀从一棵树上飞下来，落在猎狗面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000"/>
                </a:solidFill>
                <a:latin typeface="Arial"/>
                <a:ea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250920" y="1052640"/>
            <a:ext cx="8713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突然，一只老麻雀从一棵树上飞下来，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像一块石头似的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落在猎狗面前。它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扎煞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起全身的羽毛，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绝望地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尖叫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000"/>
                </a:solidFill>
                <a:latin typeface="Arial"/>
                <a:ea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"/>
          <p:cNvSpPr/>
          <p:nvPr/>
        </p:nvSpPr>
        <p:spPr>
          <a:xfrm>
            <a:off x="250920" y="83664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老麻雀用自己的身躯掩护着小麻雀，想拯救自己的幼儿。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可是因为紧张，它浑身发抖，发出嘶哑的声音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。它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呆立着不动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，准备着一场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搏斗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Picture 2" descr="路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3" descr=""/>
          <p:cNvPicPr/>
          <p:nvPr/>
        </p:nvPicPr>
        <p:blipFill>
          <a:blip r:embed="rId2"/>
          <a:stretch/>
        </p:blipFill>
        <p:spPr>
          <a:xfrm>
            <a:off x="7093080" y="5219640"/>
            <a:ext cx="1295280" cy="10080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590920"/>
            <a:ext cx="5562720" cy="34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路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2" name="Object 3" descr=""/>
          <p:cNvPicPr/>
          <p:nvPr/>
        </p:nvPicPr>
        <p:blipFill>
          <a:blip r:embed="rId2"/>
          <a:stretch/>
        </p:blipFill>
        <p:spPr>
          <a:xfrm>
            <a:off x="7308720" y="551664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590920"/>
            <a:ext cx="5562720" cy="34318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5" descr="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5245200"/>
            <a:ext cx="113184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2"/>
          <p:cNvSpPr/>
          <p:nvPr/>
        </p:nvSpPr>
        <p:spPr>
          <a:xfrm>
            <a:off x="468360" y="1700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9d8ec"/>
                </a:solidFill>
                <a:latin typeface="Arial"/>
                <a:ea typeface="黑体"/>
              </a:rPr>
              <a:t>课本剧</a:t>
            </a:r>
            <a:r>
              <a:rPr b="1" lang="en-US" sz="6000" spc="-1" strike="noStrike">
                <a:solidFill>
                  <a:srgbClr val="d9d8ec"/>
                </a:solidFill>
                <a:latin typeface="Arial"/>
                <a:ea typeface="黑体"/>
              </a:rPr>
              <a:t>《</a:t>
            </a:r>
            <a:r>
              <a:rPr b="1" lang="zh-CN" sz="6000" spc="-1" strike="noStrike">
                <a:solidFill>
                  <a:srgbClr val="d9d8ec"/>
                </a:solidFill>
                <a:latin typeface="Arial"/>
                <a:ea typeface="黑体"/>
              </a:rPr>
              <a:t>麻雀</a:t>
            </a:r>
            <a:r>
              <a:rPr b="1" lang="en-US" sz="6000" spc="-1" strike="noStrike">
                <a:solidFill>
                  <a:srgbClr val="d9d8ec"/>
                </a:solidFill>
                <a:latin typeface="Arial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谨以此剧献给天下所有伟大的母亲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恐怖紧张背景音乐.mp3" descr=""/>
          <p:cNvPicPr/>
          <p:nvPr/>
        </p:nvPicPr>
        <p:blipFill>
          <a:blip r:embed="rId1"/>
          <a:stretch/>
        </p:blipFill>
        <p:spPr>
          <a:xfrm>
            <a:off x="6372360" y="573408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98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8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58605" fill="hold"/>
                                        <p:tgtEl>
                                          <p:spTgt spid="9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Object 3" descr=""/>
          <p:cNvPicPr/>
          <p:nvPr/>
        </p:nvPicPr>
        <p:blipFill>
          <a:blip r:embed="rId1"/>
          <a:stretch/>
        </p:blipFill>
        <p:spPr>
          <a:xfrm>
            <a:off x="7308720" y="551664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2973240"/>
            <a:ext cx="5562720" cy="343224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5" descr="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5245200"/>
            <a:ext cx="1131840" cy="1042920"/>
          </a:xfrm>
          <a:prstGeom prst="rect">
            <a:avLst/>
          </a:prstGeom>
          <a:ln w="0">
            <a:noFill/>
          </a:ln>
        </p:spPr>
      </p:pic>
      <p:sp>
        <p:nvSpPr>
          <p:cNvPr id="990" name="Rectangle 6"/>
          <p:cNvSpPr/>
          <p:nvPr/>
        </p:nvSpPr>
        <p:spPr>
          <a:xfrm>
            <a:off x="0" y="1916280"/>
            <a:ext cx="788508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324000" y="189000"/>
            <a:ext cx="8712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改写结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请同学们展开丰富的想象，假设当时“我”不在现场，那么猎狗和麻雀将如何争斗，结果又会怎样？请你改写文章的结尾。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恐怖紧张背景音乐.mp3" descr=""/>
          <p:cNvPicPr/>
          <p:nvPr/>
        </p:nvPicPr>
        <p:blipFill>
          <a:blip r:embed="rId6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58605" fill="hold"/>
                                        <p:tgtEl>
                                          <p:spTgt spid="9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Object 3" descr=""/>
          <p:cNvPicPr/>
          <p:nvPr/>
        </p:nvPicPr>
        <p:blipFill>
          <a:blip r:embed="rId1"/>
          <a:stretch/>
        </p:blipFill>
        <p:spPr>
          <a:xfrm>
            <a:off x="7308720" y="551664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4" descr="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781360"/>
            <a:ext cx="5562720" cy="343224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5" descr="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5245200"/>
            <a:ext cx="1131840" cy="1042920"/>
          </a:xfrm>
          <a:prstGeom prst="rect">
            <a:avLst/>
          </a:prstGeom>
          <a:ln w="0">
            <a:noFill/>
          </a:ln>
        </p:spPr>
      </p:pic>
      <p:sp>
        <p:nvSpPr>
          <p:cNvPr id="996" name="Rectangle 6"/>
          <p:cNvSpPr/>
          <p:nvPr/>
        </p:nvSpPr>
        <p:spPr>
          <a:xfrm>
            <a:off x="108000" y="333360"/>
            <a:ext cx="90360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请不要见笑，我崇敬那只英勇的、小小的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崇敬它那爱的冲动。爱，我想比死和死的恐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更强大。只有依靠它，依靠这种爱，生命才会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系下去，发展下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屠格涅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Picture 2" descr="5179000220090510071830061_64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98" name="纯音乐-神秘园之歌(1).mp3" descr=""/>
          <p:cNvPicPr/>
          <p:nvPr/>
        </p:nvPicPr>
        <p:blipFill>
          <a:blip r:embed="rId2"/>
          <a:stretch/>
        </p:blipFill>
        <p:spPr>
          <a:xfrm>
            <a:off x="78850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9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5" descr="5179000220090510071830061_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5" name="Rectangle 2"/>
          <p:cNvSpPr/>
          <p:nvPr/>
        </p:nvSpPr>
        <p:spPr>
          <a:xfrm>
            <a:off x="485640" y="620640"/>
            <a:ext cx="8429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它负责、慈爱、勇敢、辛苦，因为它有了一群鸡雏。它伟大，因为它是鸡母亲。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一个母亲必定就是一位英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 Box 2"/>
          <p:cNvSpPr/>
          <p:nvPr/>
        </p:nvSpPr>
        <p:spPr>
          <a:xfrm>
            <a:off x="611280" y="2421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物世界中的母爱。</a:t>
            </a:r>
            <a:r>
              <a:rPr b="0" lang="zh-CN" sz="8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3" descr="fun_pics155d859bba3118e2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2" descr="46027719657870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6" descr="u=4279073678,3288672537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4" descr="1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4" descr="爱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9" name="AutoShape 5"/>
          <p:cNvSpPr/>
          <p:nvPr/>
        </p:nvSpPr>
        <p:spPr>
          <a:xfrm rot="11895600">
            <a:off x="2626920" y="4652640"/>
            <a:ext cx="3641760" cy="2038320"/>
          </a:xfrm>
          <a:prstGeom prst="wedgeEllipseCallout">
            <a:avLst>
              <a:gd name="adj1" fmla="val -53740"/>
              <a:gd name="adj2" fmla="val 10032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孩子，如果你能活下来，请你记住：妈妈永远爱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3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" descr="路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1" name="Object 3" descr=""/>
          <p:cNvPicPr/>
          <p:nvPr/>
        </p:nvPicPr>
        <p:blipFill>
          <a:blip r:embed="rId2"/>
          <a:stretch/>
        </p:blipFill>
        <p:spPr>
          <a:xfrm>
            <a:off x="7308720" y="551664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4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565360"/>
            <a:ext cx="5562720" cy="34322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5" descr="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5245200"/>
            <a:ext cx="1131840" cy="104292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6"/>
          <p:cNvSpPr/>
          <p:nvPr/>
        </p:nvSpPr>
        <p:spPr>
          <a:xfrm>
            <a:off x="3681360" y="592200"/>
            <a:ext cx="5472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它，无私、忘我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英勇 、无畏，因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它要拯救自己的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儿。它伟大，因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它是小麻雀的母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一位母亲必定就是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位英雄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Picture 2" descr="路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6" name="Object 3" descr=""/>
          <p:cNvPicPr/>
          <p:nvPr/>
        </p:nvPicPr>
        <p:blipFill>
          <a:blip r:embed="rId2"/>
          <a:stretch/>
        </p:blipFill>
        <p:spPr>
          <a:xfrm>
            <a:off x="7308720" y="551664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4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2924280"/>
            <a:ext cx="5562720" cy="34322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5" descr="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5245200"/>
            <a:ext cx="1131840" cy="1042920"/>
          </a:xfrm>
          <a:prstGeom prst="rect">
            <a:avLst/>
          </a:prstGeom>
          <a:ln w="0">
            <a:noFill/>
          </a:ln>
        </p:spPr>
      </p:pic>
      <p:sp>
        <p:nvSpPr>
          <p:cNvPr id="1019" name="Rectangle 6"/>
          <p:cNvSpPr/>
          <p:nvPr/>
        </p:nvSpPr>
        <p:spPr>
          <a:xfrm>
            <a:off x="-31680" y="0"/>
            <a:ext cx="917568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宋体"/>
              </a:rPr>
              <a:t>      </a:t>
            </a:r>
            <a:r>
              <a:rPr b="1" lang="zh-CN" sz="8000" spc="-1" strike="noStrike">
                <a:solidFill>
                  <a:srgbClr val="ff0066"/>
                </a:solidFill>
                <a:latin typeface="宋体"/>
                <a:ea typeface="宋体"/>
              </a:rPr>
              <a:t>一位母亲必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8000" spc="-1" strike="noStrike">
                <a:solidFill>
                  <a:srgbClr val="ff0066"/>
                </a:solidFill>
                <a:latin typeface="宋体"/>
                <a:ea typeface="宋体"/>
              </a:rPr>
              <a:t>就是一位英雄！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>
            <a:off x="428760" y="907920"/>
            <a:ext cx="8353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9d8ec"/>
                </a:solidFill>
                <a:latin typeface="Arial"/>
                <a:ea typeface="黑体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60000"/>
                </a:solidFill>
                <a:latin typeface="Arial"/>
                <a:ea typeface="黑体"/>
              </a:rPr>
              <a:t>安然      庞大       无可奈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60000"/>
                </a:solidFill>
                <a:latin typeface="Arial"/>
                <a:ea typeface="黑体"/>
              </a:rPr>
              <a:t>摇撼    绝望     拯救    扎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2"/>
          <p:cNvSpPr/>
          <p:nvPr/>
        </p:nvSpPr>
        <p:spPr>
          <a:xfrm>
            <a:off x="395280" y="115236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9d8e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d9d8ec"/>
                </a:solidFill>
                <a:latin typeface="Times New Roman"/>
                <a:ea typeface="宋体"/>
              </a:rPr>
              <a:t>请同学们自由读课文，想想课文中出现了哪几个主要人物？它们之间发生一个怎样的故事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矩形 3"/>
          <p:cNvSpPr/>
          <p:nvPr/>
        </p:nvSpPr>
        <p:spPr>
          <a:xfrm>
            <a:off x="3635280" y="301320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"/>
          <p:cNvSpPr/>
          <p:nvPr/>
        </p:nvSpPr>
        <p:spPr>
          <a:xfrm>
            <a:off x="468360" y="198900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d8ec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黑体"/>
              </a:rPr>
              <a:t>认真读课文，注意通过人物的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黑体"/>
              </a:rPr>
              <a:t>动作、神态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黑体"/>
              </a:rPr>
              <a:t>去揣摩人物的特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5"/>
          <p:cNvSpPr/>
          <p:nvPr/>
        </p:nvSpPr>
        <p:spPr>
          <a:xfrm>
            <a:off x="611280" y="1628640"/>
            <a:ext cx="820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它嘴角</a:t>
            </a:r>
            <a:r>
              <a:rPr b="1" lang="zh-CN" sz="5400" spc="-1" strike="noStrike">
                <a:solidFill>
                  <a:srgbClr val="960000"/>
                </a:solidFill>
                <a:latin typeface="Times New Roman"/>
                <a:ea typeface="楷体_GB2312"/>
              </a:rPr>
              <a:t>嫩黄</a:t>
            </a:r>
            <a:r>
              <a:rPr b="1" lang="zh-CN" sz="5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，头上长着</a:t>
            </a:r>
            <a:r>
              <a:rPr b="1" lang="zh-CN" sz="5400" spc="-1" strike="noStrike">
                <a:solidFill>
                  <a:srgbClr val="960000"/>
                </a:solidFill>
                <a:latin typeface="Times New Roman"/>
                <a:ea typeface="楷体_GB2312"/>
              </a:rPr>
              <a:t>绒毛</a:t>
            </a:r>
            <a:r>
              <a:rPr b="1" lang="zh-CN" sz="5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，分明才</a:t>
            </a:r>
            <a:r>
              <a:rPr b="1" lang="zh-CN" sz="5400" spc="-1" strike="noStrike">
                <a:solidFill>
                  <a:srgbClr val="960000"/>
                </a:solidFill>
                <a:latin typeface="Times New Roman"/>
                <a:ea typeface="楷体_GB2312"/>
              </a:rPr>
              <a:t>出生不久</a:t>
            </a:r>
            <a:r>
              <a:rPr b="1" lang="zh-CN" sz="5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，是从巢里掉下来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5"/>
          <p:cNvSpPr/>
          <p:nvPr/>
        </p:nvSpPr>
        <p:spPr>
          <a:xfrm>
            <a:off x="971640" y="170028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小麻雀</a:t>
            </a:r>
            <a:r>
              <a:rPr b="1" lang="zh-CN" sz="60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呆呆地站</a:t>
            </a:r>
            <a:r>
              <a:rPr b="1" lang="zh-CN" sz="60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在地上</a:t>
            </a:r>
            <a:r>
              <a:rPr b="1" lang="en-US" sz="60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无可奈何地拍打</a:t>
            </a:r>
            <a:r>
              <a:rPr b="1" lang="zh-CN" sz="60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着小翅膀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3"/>
          <p:cNvSpPr/>
          <p:nvPr/>
        </p:nvSpPr>
        <p:spPr>
          <a:xfrm>
            <a:off x="539640" y="476280"/>
            <a:ext cx="792000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面对这么娇弱的小麻雀，猎狗</a:t>
            </a:r>
            <a:r>
              <a:rPr b="1" lang="zh-CN" sz="54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张开大嘴，露出锋利的牙齿</a:t>
            </a:r>
            <a:r>
              <a:rPr b="1" lang="zh-CN" sz="54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2"/>
          <p:cNvSpPr/>
          <p:nvPr/>
        </p:nvSpPr>
        <p:spPr>
          <a:xfrm>
            <a:off x="539640" y="476280"/>
            <a:ext cx="792000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面对这么娇弱的小麻雀，猎狗</a:t>
            </a:r>
            <a:r>
              <a:rPr b="1" lang="zh-CN" sz="54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张开大嘴，露出锋利的牙齿</a:t>
            </a:r>
            <a:r>
              <a:rPr b="1" lang="zh-CN" sz="54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。在这危急关头，老麻雀是怎么做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0:40:00Z</dcterms:created>
  <dc:creator/>
  <dc:description/>
  <dc:language>en-US</dc:language>
  <cp:lastModifiedBy>万润仪器贸易公司</cp:lastModifiedBy>
  <dcterms:modified xsi:type="dcterms:W3CDTF">2020-08-24T03:36:56Z</dcterms:modified>
  <cp:revision>3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